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B248-50EA-4F5C-B3AB-DCD41E96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602C-DB3C-4D09-BB19-FFB7086D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909-CA24-4399-BE59-037B2BA4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C7F-D004-4A42-BE2F-997F0CF7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9A9-CC5A-4327-997C-A03D0618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AD4-2C0A-4B99-8536-1C932B28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BFC-5EB2-4F50-8799-B66064A2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C95-3EC2-4E96-A09B-409EDEA2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4B6-1539-4140-9FCA-D2D74E3E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11E-6537-4DEB-8704-E13DB730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566-7F7F-4828-83D5-31DA987F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877-4468-4833-83C6-F9295CD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117-4DBC-4B88-B4BF-CA245876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509-7590-48E6-AD94-47FD1895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03EB-0453-4E99-8E25-5526F7192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ra Youss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 Sara Youssef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35268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a, mi nombre es Sara Youssef. Yo vivo en la ciudad de New York. Tengo una hermana pequeña. Siempre estoy feliz y bue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601992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Hola Sara, voy a hacer una fiesta sorpresa para el cumpleaños de And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Voy a tomar un video y enviarlo a usted para que pueda ve a su famil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943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y bien, gracias. Ella es grande. Tengo tantas preguntas que hacert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ntos primos hacer  tengo en Egipto. ¿Son ellos  gordos, flacos, inteligente, estúpido, corto de altura,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les son emabrgo talentos. ¿Pueden cantar, bailar, hablar Inglés, escribir, responder rápid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609588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ómo estás? Usted y su hermana son hermosos en las fot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¿Cuántos años tienes ahora?  Tu primo, Andrea, tiene quince años aho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 tienes que llamar más a menudo. Te echo de men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819520" y="4419720"/>
            <a:ext cx="518148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chas gracias, por favor indique que ella  la amo  y la deseos una feliz cumpleaños.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895480" y="5181480"/>
            <a:ext cx="57913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se preocupe. Voy a hacerle saber, pero tengo que ir a poner la decoración así que voy a decir adiós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172200"/>
            <a:ext cx="403884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Espero que tengan noche de diversión y buena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9"/>
          <p:cNvSpPr/>
          <p:nvPr/>
        </p:nvSpPr>
        <p:spPr>
          <a:xfrm>
            <a:off x="1481040" y="25401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28:06Z</dcterms:created>
  <dc:creator>FriscoISD</dc:creator>
  <dc:description/>
  <dc:language>en-US</dc:language>
  <cp:lastModifiedBy>NYCDOE</cp:lastModifiedBy>
  <dcterms:modified xsi:type="dcterms:W3CDTF">2012-12-07T15:01:11Z</dcterms:modified>
  <cp:revision>102</cp:revision>
  <dc:subject/>
  <dc:title>Profile</dc:title>
</cp:coreProperties>
</file>